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E8A7-762A-4645-B962-2B04CCE6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D68D-1BA9-44A9-8E6B-4DA8ECFC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52A2-FE91-4452-9A6C-10E6B216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1CE7-4CE0-4102-A7B1-331D47D0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52C3-0E2E-45BF-BB43-59E18B5B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A21A-AA5A-48ED-95E8-D52AD501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4C6A-6896-4487-9397-DBBA4FEB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B6B8-A1F3-4F2E-BD23-3A13434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82D6-9ED0-4028-9AB4-CB6D4F33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3434-A619-4919-B1AF-BDC14D26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CBEF-1003-473E-AD26-F5C15E4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A8DA-E3C2-4318-88E6-D5465FDC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0019-7866-48A5-9928-E782EA7B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42B3-81A7-4204-894A-45F2F858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2DCD-07A2-4C4E-BEA8-4EC0FF60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D084-A73D-472F-9E94-6ACEBED1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0C0F-D2F3-49EB-A7E2-21E7C558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F7DD-0CAF-4F7B-8D0C-F1C5C047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63AB-6C95-4D3A-9483-255AEA5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B732-4E5B-4D0E-98E6-1BCF29E4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DD76-475F-4F98-BE4D-F731A082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0F97-DB42-4EBA-95B2-C8A5FEC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D8739-EBA8-45FA-9CF3-7EB1E1D1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7DE3-4279-4070-BDC7-36029170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6ACA-7EDC-40B4-B991-D107CF36CE73}" type="slidenum">
              <a:rPr b="0" lang="el-G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9829-9764-477F-90FC-695E677338EF}" type="slidenum">
              <a:rPr b="0" lang="el-G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Ορυκτά Καύσιμ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895320"/>
            <a:ext cx="7848720" cy="5064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Μείωση των αποθεμάτων πετρελαίου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1218960"/>
            <a:ext cx="81025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Τα παγκόσμια αποθέματα πετρελαίου είναι ένας πεπερασμένος πόρο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4033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e5e5ff"/>
                </a:solidFill>
                <a:latin typeface="Garamond"/>
              </a:rPr>
              <a:t>Ορυκτά καύσιμα και άλλες μορφές ενέργειας</a:t>
            </a:r>
            <a:r>
              <a:rPr b="1" lang="el-GR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15000" cy="43480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e5e5ff"/>
                </a:solidFill>
                <a:latin typeface="Garamond"/>
              </a:rPr>
              <a:t>Πώς διαμορφώνεται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l-GR" sz="2000" spc="-1" strike="noStrike">
                <a:solidFill>
                  <a:srgbClr val="e5e5ff"/>
                </a:solidFill>
                <a:latin typeface="Garamond"/>
              </a:rPr>
              <a:t>ο άνθρακας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υπάρχουν διάφοροι τύποι ανθράκων, ανάλογα με το ποσό θερμότητας και την πίεση που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ασκούν τα επικαλύπτοντα  ιζήματα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9592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Δημιουργία πετρελαίου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267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1080" y="53352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Παραγωγή ενέργειας και πόροι-υλικ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31120" cy="45734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5e5ff"/>
                </a:solidFill>
                <a:latin typeface="Garamond"/>
              </a:rPr>
              <a:t>Αποθέματα του άνθρακα 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0" lang="el-GR" sz="2800" spc="-1" strike="noStrike">
                <a:solidFill>
                  <a:srgbClr val="e5e5ff"/>
                </a:solidFill>
                <a:latin typeface="Garamond"/>
              </a:rPr>
              <a:t> λιγνίτη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400800" cy="48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Εντοπισμένα κοιτάσματα πετρελαίου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(σε δισεκατομμύρια τόνους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684440"/>
            <a:ext cx="7315200" cy="42415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53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5e5ff"/>
                </a:solidFill>
                <a:latin typeface="Garamond"/>
              </a:rPr>
              <a:t>Παραγωγή και Εμπόριο του πετρελαίου</a:t>
            </a:r>
            <a:r>
              <a:rPr b="1" lang="el-GR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92880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Garamond"/>
              </a:rPr>
              <a:t>Ένας μικρός αριθμός εθνών εξάγει σχεδόν το πετρέλαιο όλου του κόσμου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37" t="12048" r="3876" b="16130"/>
          <a:stretch/>
        </p:blipFill>
        <p:spPr>
          <a:xfrm>
            <a:off x="1219320" y="2013120"/>
            <a:ext cx="6095880" cy="3543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535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5e5ff"/>
                </a:solidFill>
                <a:latin typeface="Garamond"/>
              </a:rPr>
              <a:t>Παραγωγή και κατανάλωση πετρελαίου σε διάφορες χώρες</a:t>
            </a:r>
            <a:r>
              <a:rPr b="1" lang="el-GR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5680" y="685800"/>
            <a:ext cx="87883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Garamond"/>
              </a:rPr>
              <a:t>Υπόμνημα: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Garamond"/>
              </a:rPr>
              <a:t>περίγραμμα: κατανάλωση</a:t>
            </a:r>
            <a:r>
              <a:rPr b="0" lang="el-GR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l-GR" sz="1200" spc="-1" strike="noStrike">
                <a:solidFill>
                  <a:srgbClr val="ffffff"/>
                </a:solidFill>
                <a:latin typeface="Garamond"/>
              </a:rPr>
              <a:t>συμπαγές: παραγωγή</a:t>
            </a:r>
            <a:r>
              <a:rPr b="0" lang="el-GR" sz="1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Garamond"/>
              </a:rPr>
              <a:t>Παράδειγμα: η Γαλλία παράγει 3,5 και καταναλώνει 249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2600" y="1600200"/>
            <a:ext cx="828648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Τάσος</cp:lastModifiedBy>
  <dcterms:modified xsi:type="dcterms:W3CDTF">2008-04-07T08:35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