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2B2F-292E-4FAC-9208-DCE35B8A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FB96-C9BD-43CC-8AAE-ECA18781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BD9B-D179-4938-8E8F-5BEB94E1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4B43-D666-41CF-B357-9E995D13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1C39-6B22-4E99-9500-E52E8ECA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47A8-8398-42BA-BF3F-DF23C018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39DC-3087-4665-A9BA-2B10C92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EC9F-816A-47FA-9206-913B963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01D-9B05-4ACE-A34A-D740BFAC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945E-37D8-4282-908F-363261CA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A8D3-75E7-419A-B870-1635A40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9893-6D6C-44D6-92FA-D6558D3A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7182-AF1D-4B18-9D39-60D929A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FB33-4928-454F-9611-106304A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9004-BA2B-458A-B833-669D669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52A8-B57F-4CB6-B1E7-D32D2199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D74-F058-460D-AE70-08A8937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F635-0A6B-47CB-8C98-7EAFBD58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EE9A-D9BB-4550-B708-B83C87FC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6FDF-71FB-4DE2-BDCD-B385D8AA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BF7A-2D24-4332-9F97-A32D26A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BA89-9A2C-4B2C-B777-156A1C0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5787-64C4-4E38-81CB-560C59F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1521-7313-4DDF-A6DE-E34C63DE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9EA9-4DB5-4131-B1F6-83454DFECC90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65CD-5430-4115-942B-0CA121606618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Ορυκτά Καύσιμ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895320"/>
            <a:ext cx="7848720" cy="5064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Μείωση των αποθεμάτων πετρελαίου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1218960"/>
            <a:ext cx="81025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Τα παγκόσμια αποθέματα πετρελαίου είναι ένας πεπερασμένος πόρο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4033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e5e5ff"/>
                </a:solidFill>
                <a:latin typeface="Garamond"/>
              </a:rPr>
              <a:t>Ορυκτά καύσιμα και άλλες μορφές ενέργειας</a:t>
            </a:r>
            <a:r>
              <a:rPr b="1" lang="el-GR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15000" cy="4348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e5ff"/>
                </a:solidFill>
                <a:latin typeface="Garamond"/>
              </a:rPr>
              <a:t>Πώς διαμορφώνεται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l-GR" sz="2000" spc="-1" strike="noStrike">
                <a:solidFill>
                  <a:srgbClr val="e5e5ff"/>
                </a:solidFill>
                <a:latin typeface="Garamond"/>
              </a:rPr>
              <a:t>ο άνθρακας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υπάρχουν διάφοροι τύποι ανθράκων, ανάλογα με το ποσό θερμότητας και την πίεση που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ασκούν τα επικαλύπτοντα  ιζήματα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9592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Δημιουργία πετρελαίου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267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53352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Παραγωγή ενέργειας και πόροι-υλικ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31120" cy="4573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5e5ff"/>
                </a:solidFill>
                <a:latin typeface="Garamond"/>
              </a:rPr>
              <a:t>Αποθέματα του άνθρακα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0" lang="el-GR" sz="2800" spc="-1" strike="noStrike">
                <a:solidFill>
                  <a:srgbClr val="e5e5ff"/>
                </a:solidFill>
                <a:latin typeface="Garamond"/>
              </a:rPr>
              <a:t> λιγνίτη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400800" cy="48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Εντοπισμένα κοιτάσματα πετρελαίου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(σε δισεκατομμύρια τόνους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684440"/>
            <a:ext cx="7315200" cy="4241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53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5e5ff"/>
                </a:solidFill>
                <a:latin typeface="Garamond"/>
              </a:rPr>
              <a:t>Παραγωγή και Εμπόριο του πετρελαίου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92880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Garamond"/>
              </a:rPr>
              <a:t>Ένας μικρός αριθμός εθνών εξάγει σχεδόν το πετρέλαιο όλου του κόσμου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37" t="12048" r="3876" b="16130"/>
          <a:stretch/>
        </p:blipFill>
        <p:spPr>
          <a:xfrm>
            <a:off x="1219320" y="2013120"/>
            <a:ext cx="6095880" cy="3543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535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5e5ff"/>
                </a:solidFill>
                <a:latin typeface="Garamond"/>
              </a:rPr>
              <a:t>Παραγωγή και κατανάλωση πετρελαίου σε διάφορες χώρες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5680" y="685800"/>
            <a:ext cx="87883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Garamond"/>
              </a:rPr>
              <a:t>Υπόμνημα: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Garamond"/>
              </a:rPr>
              <a:t>περίγραμμα: κατανάλωση</a:t>
            </a:r>
            <a:r>
              <a:rPr b="0" lang="el-GR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l-GR" sz="1200" spc="-1" strike="noStrike">
                <a:solidFill>
                  <a:srgbClr val="ffffff"/>
                </a:solidFill>
                <a:latin typeface="Garamond"/>
              </a:rPr>
              <a:t>συμπαγές: παραγωγή</a:t>
            </a:r>
            <a:r>
              <a:rPr b="0" lang="el-GR" sz="1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Garamond"/>
              </a:rPr>
              <a:t>Παράδειγμα: η Γαλλία παράγει 3,5 και καταναλώνει 249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2600" y="1600200"/>
            <a:ext cx="828648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Τάσος</cp:lastModifiedBy>
  <dcterms:modified xsi:type="dcterms:W3CDTF">2008-04-07T08:35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