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744F-A3D4-4259-8553-32A18EE1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A0774-338A-4A3E-9BB6-411C4EEE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0A0C3-A9DA-4424-AFAF-BCE55693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B10E2-889A-41A8-B447-29E4117B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629F-D85F-48CC-ADF3-BE231B23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5E30-2BE3-4B22-BD6C-B3E8E707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BF4C-F0B1-4C23-B6FA-674040D1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E6DA-1567-4500-B03A-FFE6F7F8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C4B5-421E-415D-9A7D-03EE902F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2231-A62E-45B5-B494-5885D281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DBD0-E65D-4CCE-A9D8-0DF492D5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FBF0A-3A78-4078-8D0B-FD84D582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0C7D-1AEF-4AFD-B4B0-CB681FA3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6679-2172-44A4-9EC5-5FCF7B16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5427-D1AE-4624-AC09-554C1B86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2F81-2AED-4F78-BAE3-854FD61C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E55E-0649-48B2-856B-686CD162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8600B-3887-424B-B15B-C6C9C9C4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9F323-D646-48A9-991F-DF5A31F7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5025-07DC-4EC9-8756-8BCDF6D3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55F4E-D853-4B1C-BEED-F2F4FE5E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4A3C-B85A-4822-A435-68D652DC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ED383-BB7E-4ECA-923F-68B27843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BD7E7-4C44-457A-BCA8-73BDA384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E204-15C6-4A2B-A81A-BC2B99E32E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A319-80E5-420E-A487-B318283E4C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ΑΝΑΝΕΩΣΙΜΕΣ ΠΗΓΕΣ ΕΝΕΡΓΕΙΑΣ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-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97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51200"/>
            <a:ext cx="78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ΠΑΡΑΓΩΓΗ Η.Ε. ΑΠΟ ΑΝΑΝΕΩΣΙΜΕ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ΠΗΓΕΣ ΕΝΕΡΓΕΙΑΣ  (Α.Π.Ε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62120" y="1143000"/>
          <a:ext cx="7696080" cy="483552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282680"/>
                <a:gridCol w="1282680"/>
                <a:gridCol w="1282680"/>
                <a:gridCol w="128268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Νερ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Αέρ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Βιομάζ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Γεωθερμί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Σύνολ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D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.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.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.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IR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N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.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.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el-G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F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.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.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.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U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E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12.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0.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1.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0.</a:t>
                      </a:r>
                      <a:r>
                        <a:rPr b="1" lang="el-GR" sz="14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14.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839880" y="632448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Πηγή: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urost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228600"/>
            <a:ext cx="67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ΣΤΟΧΟΙ ΕΥΡΩΠΑΙΚΗΣ ΕΝΩΣΗ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ΓΙΑ ΠΑΡΑΓΩΓΗ ΕΝΕΡΓΕΙΑ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ΑΠΟ Α.Π.Ε. ΜΕΧΡΙ ΤΟ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0" y="1371600"/>
          <a:ext cx="5029200" cy="4886280"/>
        </p:xfrm>
        <a:graphic>
          <a:graphicData uri="http://schemas.openxmlformats.org/drawingml/2006/table">
            <a:tbl>
              <a:tblPr/>
              <a:tblGrid>
                <a:gridCol w="1058760"/>
                <a:gridCol w="397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Ποσοστό από Ανανεώσιμες πηγέ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D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9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.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0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9.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1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IR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3.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5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5.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N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8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5.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F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5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U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Verdana"/>
                          <a:ea typeface="Times New Roman"/>
                        </a:rPr>
                        <a:t>E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22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NGELIS</cp:lastModifiedBy>
  <dcterms:modified xsi:type="dcterms:W3CDTF">2007-05-31T17:26:4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