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47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56.png" ContentType="image/png"/>
  <Override PartName="/ppt/media/image46.png" ContentType="image/png"/>
  <Override PartName="/ppt/media/image57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7B2E-13F3-4BDF-BE16-524216A4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σφσδ δφγ δφγ σδφγ δφ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5F3-F1EC-4291-BB19-57D68DA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9CE-0E89-4F8C-A72D-9FE0B59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702-0828-402E-BD80-5320E9DA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872-D9E0-42CE-8632-7AF83A67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714-ADCB-444B-8197-B799A883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F2D-A34F-4853-85E3-1ACBD04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B49-EF0B-4CC0-93DA-80AD0CDE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3A4-3087-4583-B490-AE04A114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7E9-08BF-4C2E-B831-CFCAFDB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279-9999-450F-B30B-DE1E11C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DC1-6EB7-498B-BFD4-AD54F06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E73-7D3D-4176-873A-43BAC9C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158A-F909-4E19-A233-4D6A335E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219280" y="40428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cc00"/>
                </a:solidFill>
                <a:latin typeface="Arial"/>
              </a:rPr>
              <a:t>Γέφυρε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ε ψηλές όχθες κατασκευάζεται σταθερή γέφυρα μεγάλου ύψου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44720" y="1600200"/>
            <a:ext cx="705312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κή λύσ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ύ απότομος δρόμο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2749680"/>
            <a:ext cx="8066160" cy="2263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αράδειγμα ανοιγόμενης γέφυρ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0400" y="2986200"/>
            <a:ext cx="8085240" cy="231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Water Street Bridg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opy owned by the State Historical Society of Wiscon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 of East Water Street Bridge"/>
          <p:cNvPicPr/>
          <p:nvPr/>
        </p:nvPicPr>
        <p:blipFill>
          <a:blip r:embed="rId2"/>
          <a:stretch/>
        </p:blipFill>
        <p:spPr>
          <a:xfrm>
            <a:off x="988920" y="1773360"/>
            <a:ext cx="71643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wauke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opy owned by the State Historical Society of Wisconsin Visual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 of Grand Avenue Bascule Bridge"/>
          <p:cNvPicPr/>
          <p:nvPr/>
        </p:nvPicPr>
        <p:blipFill>
          <a:blip r:embed="rId2"/>
          <a:stretch/>
        </p:blipFill>
        <p:spPr>
          <a:xfrm>
            <a:off x="1017720" y="1855800"/>
            <a:ext cx="71085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ονδίνο 18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24204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bridge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ονδίν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8880" y="1413000"/>
            <a:ext cx="7629480" cy="50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α μικρά σκάφη περνούν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έφυρα πάνω από κοιλά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1782720"/>
            <a:ext cx="67294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92480" cy="613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7520" y="404640"/>
            <a:ext cx="4092480" cy="613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850160" cy="41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stle Bridge in Nehrin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251604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restle Bridge over the Trebel near Nehringen"/>
          <p:cNvPicPr/>
          <p:nvPr/>
        </p:nvPicPr>
        <p:blipFill>
          <a:blip r:embed="rId3"/>
          <a:stretch/>
        </p:blipFill>
        <p:spPr>
          <a:xfrm>
            <a:off x="4940280" y="256536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ίωμα ανοιγόμενης γέφυρας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lic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1851120"/>
            <a:ext cx="6159600" cy="438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rlem old lifting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78040" y="1768320"/>
            <a:ext cx="5673600" cy="4253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am lifting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90760" y="1628640"/>
            <a:ext cx="6249960" cy="4684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ting bridge piv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2468520"/>
            <a:ext cx="4038480" cy="278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3276720" cy="4371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nybridge (Amsterd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1677960"/>
            <a:ext cx="5889600" cy="4415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ngracht bridge (Netherl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1731960"/>
            <a:ext cx="5817960" cy="4361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έφυρα πάνω από μη πλωτό ποτάμ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39765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lands Glengall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1606680"/>
            <a:ext cx="6180480" cy="4630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nthony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(σε κίνησ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0400" y="1600200"/>
            <a:ext cx="56232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 Mary’s Island Lift Bridge (Chath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κλειστή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66760" y="134136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σε κίνησ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ανοιχτή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141912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ville Florida 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άτοψ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33640" y="1600200"/>
          <a:ext cx="687528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3640" y="1600200"/>
                    <a:ext cx="6875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ville Florida 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ρόσοψ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700280"/>
          <a:ext cx="820728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2072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35280" y="198864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μοντέλ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840560" cy="590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ώς λειτουργε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890880" cy="489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516480" cy="5272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ξωτή γέφυ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4720" y="1628640"/>
            <a:ext cx="7056360" cy="4713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μή του κινητού μέρους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er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00000" y="1601640"/>
            <a:ext cx="7431120" cy="5067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'Rorke Bridg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998800" y="2860560"/>
          <a:ext cx="3335400" cy="23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0" y="2860560"/>
                    <a:ext cx="33354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dge at Langois, Arles (Van Gog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ίκικονγκ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 Η Γέφυρα με τα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όξα (Πεκίνο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46320" y="2013120"/>
            <a:ext cx="5018040" cy="3936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έφυρα σε ανισόπεδες όχθ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395440"/>
            <a:ext cx="7672320" cy="3194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αλιές λιθόκτιστες γέφυρ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28796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27920" y="1846440"/>
            <a:ext cx="2692080" cy="179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67160" y="429264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52680" y="1846440"/>
            <a:ext cx="2659320" cy="179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189840" y="4294080"/>
            <a:ext cx="2630160" cy="179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92040" y="4294080"/>
            <a:ext cx="2811600" cy="179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πρόβλημα της μεγάλης κλί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64000" y="208296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417920"/>
            <a:ext cx="2741760" cy="1841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64000" y="4417920"/>
            <a:ext cx="274644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476360" y="202392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α μεγάλα πλάτη επιτρέπουν τη διάβαση κάτω από σταθερή γέφυ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3000600" cy="146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4908600" cy="33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049920" cy="2287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7:25:21Z</dcterms:created>
  <dc:creator>Θάνος</dc:creator>
  <dc:description/>
  <dc:language>en-US</dc:language>
  <cp:lastModifiedBy>Θάνος</cp:lastModifiedBy>
  <dcterms:modified xsi:type="dcterms:W3CDTF">2005-12-05T01:12:26Z</dcterms:modified>
  <cp:revision>50</cp:revision>
  <dc:subject/>
  <dc:title>Γέφυρες</dc:title>
</cp:coreProperties>
</file>