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47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51.png" ContentType="image/png"/>
  <Override PartName="/ppt/media/image56.png" ContentType="image/png"/>
  <Override PartName="/ppt/media/image46.png" ContentType="image/png"/>
  <Override PartName="/ppt/media/image57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BAD1-4166-441C-A21F-72E84EEC9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σφσδ δφγ δφγ σδφγ δφ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DDF-737A-4C6A-8C47-BE259CE9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78A-54DF-4B47-B6F7-B8D29858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9F8-DB84-43D7-ACD1-7DB3622A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32D-CAB4-4C1B-BEE5-0B008069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135-25B0-436A-822A-0C559092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9BC-F35F-4ADE-8733-DBC74D0D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968-DA08-4FD7-9C3C-01CF9E4F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81C-EB94-4425-A933-7C46E57A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508-56A6-47C0-A608-E119261A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444-AAAE-4784-9A5E-C7605D9B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C93-A5F1-4298-9110-67F9C344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E2C-B4F6-4BC3-8282-D426306B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084B-6BC2-4C51-8342-FE18D95E0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219280" y="404280"/>
            <a:ext cx="329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ffcc00"/>
                </a:solidFill>
                <a:latin typeface="Arial"/>
              </a:rPr>
              <a:t>Γέφυρε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ε ψηλές όχθες κατασκευάζεται σταθερή γέφυρα μεγάλου ύψου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44720" y="1600200"/>
            <a:ext cx="705312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κή λύσ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ύ απότομος δρόμο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2749680"/>
            <a:ext cx="8066160" cy="2263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αράδειγμα ανοιγόμενης γέφυρ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0400" y="2986200"/>
            <a:ext cx="8085240" cy="231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 Water Street Bridg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copy owned by the State Historical Society of Wiscon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Image of East Water Street Bridge"/>
          <p:cNvPicPr/>
          <p:nvPr/>
        </p:nvPicPr>
        <p:blipFill>
          <a:blip r:embed="rId2"/>
          <a:stretch/>
        </p:blipFill>
        <p:spPr>
          <a:xfrm>
            <a:off x="988920" y="1773360"/>
            <a:ext cx="71643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wauke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copy owned by the State Historical Society of Wisconsin Visual 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Image of Grand Avenue Bascule Bridge"/>
          <p:cNvPicPr/>
          <p:nvPr/>
        </p:nvPicPr>
        <p:blipFill>
          <a:blip r:embed="rId2"/>
          <a:stretch/>
        </p:blipFill>
        <p:spPr>
          <a:xfrm>
            <a:off x="1017720" y="1855800"/>
            <a:ext cx="71085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Λονδίνο 18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24204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er bridge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Λονδίνο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8880" y="1413000"/>
            <a:ext cx="7629480" cy="508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α μικρά σκάφη περνούν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ια τα μεγαλύτερα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ια τα μεγαλύτερα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έφυρα πάνω από κοιλάδ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8920" y="1782720"/>
            <a:ext cx="672948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ια τα μεγαλύτερα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092480" cy="613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27520" y="404640"/>
            <a:ext cx="4092480" cy="613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ster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850160" cy="418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stle Bridge in Nehrin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2516040"/>
            <a:ext cx="4392720" cy="292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Trestle Bridge over the Trebel near Nehringen"/>
          <p:cNvPicPr/>
          <p:nvPr/>
        </p:nvPicPr>
        <p:blipFill>
          <a:blip r:embed="rId3"/>
          <a:stretch/>
        </p:blipFill>
        <p:spPr>
          <a:xfrm>
            <a:off x="4940280" y="2565360"/>
            <a:ext cx="3816360" cy="2860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μοίωμα ανοιγόμενης γέφυρας</a:t>
            </a:r>
            <a:br>
              <a:rPr sz="4000"/>
            </a:b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lic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1851120"/>
            <a:ext cx="6159600" cy="4386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rlem old lifting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78040" y="1768320"/>
            <a:ext cx="5673600" cy="4253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am lifting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90760" y="1628640"/>
            <a:ext cx="6249960" cy="4684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ting bridge piv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2468520"/>
            <a:ext cx="4038480" cy="278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3276720" cy="4371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nybridge (Amsterda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1677960"/>
            <a:ext cx="5889600" cy="4415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ngracht bridge (Netherl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92360" y="1731960"/>
            <a:ext cx="5817960" cy="4361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έφυρα πάνω από μη πλωτό ποτάμ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27280" y="1773360"/>
            <a:ext cx="39765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klands Glengall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47640" y="1606680"/>
            <a:ext cx="6180480" cy="4630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anthony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(σε κίνησ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60400" y="1600200"/>
            <a:ext cx="562320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 Mary’s Island Lift Bridge (Chath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48360" cy="4105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Mill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(κλειστή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66760" y="1341360"/>
            <a:ext cx="6718320" cy="503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Mill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(σε κίνησ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Mill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(ανοιχτή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58920" y="1419120"/>
            <a:ext cx="671832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ville Florida (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άτοψ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33640" y="1600200"/>
          <a:ext cx="687528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3640" y="1600200"/>
                    <a:ext cx="6875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ville Florida (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ρόσοψ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700280"/>
          <a:ext cx="8207280" cy="46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820728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35280" y="198864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 μοντέλ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4840560" cy="590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ώς λειτουργε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3890880" cy="4897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3516480" cy="5272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ξωτή γέφυ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4720" y="1628640"/>
            <a:ext cx="7056360" cy="4713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μή του κινητού μέρους</a:t>
            </a:r>
            <a:br>
              <a:rPr sz="4000"/>
            </a:b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er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00000" y="1601640"/>
            <a:ext cx="7431120" cy="5067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'Rorke Bridg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998800" y="2860560"/>
          <a:ext cx="3335400" cy="234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8800" y="2860560"/>
                    <a:ext cx="333540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dge at Langois, Arles (Van Gog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630440" y="1600200"/>
            <a:ext cx="588312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ίκικονγκ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 Η Γέφυρα με τα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όξα (Πεκίνο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46320" y="2013120"/>
            <a:ext cx="5018040" cy="3936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έφυρα σε ανισόπεδες όχθ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2395440"/>
            <a:ext cx="7672320" cy="3194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αλιές λιθόκτιστες γέφυρ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287964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127920" y="1846440"/>
            <a:ext cx="2692080" cy="1798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467160" y="429264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352680" y="1846440"/>
            <a:ext cx="2659320" cy="1798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189840" y="4294080"/>
            <a:ext cx="2630160" cy="1798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392040" y="4294080"/>
            <a:ext cx="2811600" cy="179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πρόβλημα της μεγάλης κλί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64000" y="2082960"/>
            <a:ext cx="2741760" cy="1827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417920"/>
            <a:ext cx="2741760" cy="1841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364000" y="4417920"/>
            <a:ext cx="2746440" cy="1843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476360" y="2023920"/>
            <a:ext cx="25909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α μεγάλα πλάτη επιτρέπουν τη διάβαση κάτω από σταθερή γέφυ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3000600" cy="146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67280" y="2492280"/>
            <a:ext cx="4908600" cy="331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3049920" cy="2287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7:25:21Z</dcterms:created>
  <dc:creator>Θάνος</dc:creator>
  <dc:description/>
  <dc:language>en-US</dc:language>
  <cp:lastModifiedBy>Θάνος</cp:lastModifiedBy>
  <dcterms:modified xsi:type="dcterms:W3CDTF">2005-12-05T01:12:26Z</dcterms:modified>
  <cp:revision>50</cp:revision>
  <dc:subject/>
  <dc:title>Γέφυρες</dc:title>
</cp:coreProperties>
</file>