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56.png" ContentType="image/png"/>
  <Override PartName="/ppt/media/image46.png" ContentType="image/png"/>
  <Override PartName="/ppt/media/image57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A653-38D1-4F7E-9D39-8872D78A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σφσδ δφγ δφγ σδφγ δφ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C13-A08C-4747-8A03-08446B5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2DC-11EE-475E-A519-545F607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78A-DB2D-47F4-9B65-6B09386D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1F6-8497-4768-8A94-6FCA157A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A70-2086-4BDE-8CCF-0549022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30F-E772-4B42-B5EB-B9C71DD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CF8-A021-4070-817E-1FFA813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D44-0865-4D45-8E31-2CF7A1D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265-5C9F-4297-BD10-ACAE179B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DAC-EFB6-44B9-A409-F8B6F52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730-5D39-4D16-B1E8-B05FFBC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9C9-2A2C-4194-9031-3A9D03D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A0BC-EFAD-4844-B532-9EEC96C54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219280" y="404280"/>
            <a:ext cx="329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cc00"/>
                </a:solidFill>
                <a:latin typeface="Arial"/>
              </a:rPr>
              <a:t>Γέφυρε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ε ψηλές όχθες κατασκευάζεται σταθερή γέφυρα μεγάλου ύψου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44720" y="1600200"/>
            <a:ext cx="705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κή λύσ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ύ απότομος δρόμο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2749680"/>
            <a:ext cx="8066160" cy="2263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αράδειγμα ανοιγόμενης γέφυρ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0400" y="2986200"/>
            <a:ext cx="8085240" cy="231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Water Street Bridg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Image of East Water Street Bridge"/>
          <p:cNvPicPr/>
          <p:nvPr/>
        </p:nvPicPr>
        <p:blipFill>
          <a:blip r:embed="rId2"/>
          <a:stretch/>
        </p:blipFill>
        <p:spPr>
          <a:xfrm>
            <a:off x="988920" y="1773360"/>
            <a:ext cx="71643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wauke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copy owned by the State Historical Society of Wisconsin Visual Arch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Image of Grand Avenue Bascule Bridge"/>
          <p:cNvPicPr/>
          <p:nvPr/>
        </p:nvPicPr>
        <p:blipFill>
          <a:blip r:embed="rId2"/>
          <a:stretch/>
        </p:blipFill>
        <p:spPr>
          <a:xfrm>
            <a:off x="1017720" y="1855800"/>
            <a:ext cx="7108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 18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24204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bridge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Λονδίν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8880" y="1413000"/>
            <a:ext cx="7629480" cy="50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α μικρά σκάφη περνούν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πάνω από κοιλά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1782720"/>
            <a:ext cx="672948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ια τα μεγαλύτερα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5000" y="1413000"/>
            <a:ext cx="7623360" cy="50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2480" cy="6137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7520" y="404640"/>
            <a:ext cx="409248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ster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850160" cy="41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stle Bridge in Nehring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251604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Trestle Bridge over the Trebel near Nehringen"/>
          <p:cNvPicPr/>
          <p:nvPr/>
        </p:nvPicPr>
        <p:blipFill>
          <a:blip r:embed="rId3"/>
          <a:stretch/>
        </p:blipFill>
        <p:spPr>
          <a:xfrm>
            <a:off x="4940280" y="2565360"/>
            <a:ext cx="3816360" cy="2860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μοίωμα ανοιγόμενης γέφυρα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ic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1851120"/>
            <a:ext cx="6159600" cy="438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rlem old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78040" y="1768320"/>
            <a:ext cx="5673600" cy="425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am lifting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90760" y="1628640"/>
            <a:ext cx="6249960" cy="4684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ting bridge piv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2468520"/>
            <a:ext cx="4038480" cy="278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276720" cy="4371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nnybridge (Amsterd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1677960"/>
            <a:ext cx="5889600" cy="4415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ngracht bridge (Netherl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1731960"/>
            <a:ext cx="5817960" cy="436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έφυρα πάνω από μη πλωτό ποτάμ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773360"/>
            <a:ext cx="39765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lands Glengall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1606680"/>
            <a:ext cx="6180480" cy="4630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nthony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60400" y="1600200"/>
            <a:ext cx="562320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 Mary’s Island Lift Bridge (Chath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κλεισ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66760" y="134136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σε κίνησ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718320" cy="50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Mill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(ανοιχτή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1419120"/>
            <a:ext cx="671832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άτ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33640" y="1600200"/>
          <a:ext cx="687528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3640" y="1600200"/>
                    <a:ext cx="6875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ville Florida (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ρόσοψ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700280"/>
          <a:ext cx="8207280" cy="46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00280"/>
                    <a:ext cx="820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35280" y="1988640"/>
            <a:ext cx="33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 μοντέλ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4840560" cy="590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ώς λειτουργε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890880" cy="489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16480" cy="5272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Τοξωτή γέφυ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4720" y="1628640"/>
            <a:ext cx="7056360" cy="4713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μή του κινητού μέρους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er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00000" y="1601640"/>
            <a:ext cx="7431120" cy="5067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'Rorke Bridg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998800" y="2860560"/>
          <a:ext cx="3335400" cy="23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8800" y="2860560"/>
                    <a:ext cx="33354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dge at Langois, Arles (Van Gog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30440" y="1600200"/>
            <a:ext cx="588312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ίκικονγκ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 Η Γέφυρα με τα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όξα (Πεκίνο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46320" y="2013120"/>
            <a:ext cx="5018040" cy="3936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Γέφυρα σε ανισόπεδες όχθ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395440"/>
            <a:ext cx="7672320" cy="3194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Παλιές λιθόκτιστες γέφυρ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8796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27920" y="1846440"/>
            <a:ext cx="2692080" cy="179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467160" y="4292640"/>
            <a:ext cx="240012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52680" y="1846440"/>
            <a:ext cx="2659320" cy="1798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189840" y="4294080"/>
            <a:ext cx="2630160" cy="179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392040" y="4294080"/>
            <a:ext cx="2811600" cy="179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πρόβλημα της μεγάλης κλί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64000" y="2082960"/>
            <a:ext cx="2741760" cy="1827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417920"/>
            <a:ext cx="2741760" cy="1841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64000" y="4417920"/>
            <a:ext cx="2746440" cy="1843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476360" y="20239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α μεγάλα πλάτη επιτρέπουν τη διάβαση κάτω από σταθερή γέφυ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3000600" cy="146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908600" cy="33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049920" cy="2287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7:25:21Z</dcterms:created>
  <dc:creator>Θάνος</dc:creator>
  <dc:description/>
  <dc:language>en-US</dc:language>
  <cp:lastModifiedBy>Θάνος</cp:lastModifiedBy>
  <dcterms:modified xsi:type="dcterms:W3CDTF">2005-12-05T01:12:26Z</dcterms:modified>
  <cp:revision>50</cp:revision>
  <dc:subject/>
  <dc:title>Γέφυρες</dc:title>
</cp:coreProperties>
</file>