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1833-374D-4329-9465-9948D78285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22E1-9111-454A-89CB-6DDA2E4C7D1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η διαφάνεια αυτή μπορούμε να εισάγουμε φωτογραφίες όπου φαίνονται οι αλληλεπιδράσεις των στοιχείων του πλανήτη οι οποίες θα αναπτυχθούν στην παρουσίασ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B2E8-BB0D-46B0-A62C-E758562A14B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πορούμε να εισάγουμε πληροφορίες (π.χ. εικόνες, πίνακες, βίντεο κ.λπ.) που συλλέξαμε από την αναζήτησή μας στο διαδίκτυο για τη Γροιλανδί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3AE-2936-4831-ADBD-58B12AB1BA9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πορούμε να εισάγουμε πληροφορίες (π.χ. εικόνες, πίνακες, βίντεο κ.λπ.) που συλλέξαμε από την αναζήτησή μας στο διαδίκτυο για τη Γερμανί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E8B-27F3-4233-A675-61E728B0130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φέρουμε χαρακτηριστικά παραδείγματα επιδράσεων των ανθρώπινων δραστηριοτήτων στο σύστημα της Γης. Μπορούμε να εισάγουμε εικόνες ή άλλα δεδομένα (π.χ. βίντεο, διαγράμματα κ.λπ.) που συλλέξαμε από την αναζήτησή μας στο διαδίκτυο. Μπορούμε επίσης να διατυπώσουμε τα συμπεράσματα στα οποία καταλήξαμε και τις προτάσεις μα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0AD-714F-4AEE-A82D-BAC649D8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B92-8521-4DEA-A4B6-C5B4CBE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8DF-B638-4461-8DDB-7B40313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312-1005-4F0D-B1C6-D07A04FA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312-517B-4BAD-8C6B-2BA2DA16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163-7F41-4CBB-AD86-237F7AD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B1D-80D7-49D0-82F9-DCF57EB8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7F4-BA0B-46D7-8D19-9367CED0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332-6DD8-4441-A70F-7427B177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34F-C5DB-4631-A3D1-64AD590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EE5-DE35-4BBA-A9EC-915616B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09F-0666-4D77-B7B8-E8DDDFA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Έργο ΠΛΕΙΑΔΕΣ/ Νηρηίδες, Γ΄ ΚΠΣ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E9A7-A5F4-4CC3-A88F-AF81492EB6E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0256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Ο άνθρωπος αλληλεπιδρά με τα άλλα στοιχεία του πλανήτη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39640" y="98100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9079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Χαρακτηριστικά μιας αραιοκατοικημένης περιοχής του πλανήτη μας: Η περίπτωση της Γροιλανδ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314F-3D24-44DE-8DE9-09B7CD79F20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6 - Θέση υποσέλιδου"/>
          <p:cNvSpPr/>
          <p:nvPr/>
        </p:nvSpPr>
        <p:spPr>
          <a:xfrm>
            <a:off x="2714760" y="6245280"/>
            <a:ext cx="3305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Έργο ΠΛΕΙΑΔΕΣ/ Νηρηίδες, Γ΄ ΚΠΣ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Χαρακτηριστικά μιας πυκνοκατοικημένης περιοχής του πλανήτη μας: Η περίπτωση της Γερμανία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8DBB-850B-4B5E-A295-B6ECE5F5B00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- Θέση υποσέλιδου"/>
          <p:cNvSpPr/>
          <p:nvPr/>
        </p:nvSpPr>
        <p:spPr>
          <a:xfrm>
            <a:off x="2714760" y="6245280"/>
            <a:ext cx="3305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Έργο ΠΛΕΙΑΔΕΣ/ Νηρηίδες, Γ΄ ΚΠΣ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ι ανθρώπινες δραστηριότητες επηρεάζουν το σύστημα της Γης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93E3-AAEA-4B99-95CD-F7B0213A127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- Θέση υποσέλιδου"/>
          <p:cNvSpPr/>
          <p:nvPr/>
        </p:nvSpPr>
        <p:spPr>
          <a:xfrm>
            <a:off x="2643120" y="6245280"/>
            <a:ext cx="337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Έργο ΠΛΕΙΑΔΕΣ/ Νηρηίδες, Γ΄ ΚΠΣ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6:59:07Z</dcterms:created>
  <dc:creator>USER</dc:creator>
  <dc:description/>
  <dc:language>en-US</dc:language>
  <cp:lastModifiedBy>User</cp:lastModifiedBy>
  <dcterms:modified xsi:type="dcterms:W3CDTF">2008-06-04T17:03:45Z</dcterms:modified>
  <cp:revision>4</cp:revision>
  <dc:subject/>
  <dc:title>Ο άνθρωπος αλληλεπιδρά με τα άλλα στοιχεία του πλανήτη </dc:title>
</cp:coreProperties>
</file>