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080-248C-4F99-97D5-A6AF960C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9C1-C2DD-4FC4-8A7A-49A73F1D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27E-BFD4-49CE-95DD-4B5EC901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79C-BF0D-461E-966C-8390283B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1F27-80D4-422B-97C8-B076BA26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341B-7D38-4352-A89E-0226318E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39D3-CEF5-4A0C-90E0-9D7488C5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9F25-6B85-4641-BD25-4159FC65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6793-2FC7-49BE-941D-070082A7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4BEA-CC8D-46D5-94B8-5A1AC832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AEB5-264F-42A2-A1EA-0FA9BF17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991-9874-467F-955E-8CE29FBF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21B3-808E-4391-A05E-DDBFD9C1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ECD6-3825-49E1-BD69-B891CAEA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9A32-0A36-4A91-8038-F6DBEDF8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F618-9FD0-47DE-B735-DD4F0B06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F2E8-C288-4E48-8FA4-73768387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D49-05D7-43B4-9048-929C3FBF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7CB-F1DC-445F-83DC-7A2524B1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95C-DD0A-4F7E-A7AF-3298501B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6CA-0F44-4FBF-9F88-20011098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989-CEF7-416C-9588-A63F765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59D-FDA8-43D1-A2B0-DC5A886C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D3C-D98E-4CB0-993F-DA9C3EE1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9B76-B095-4515-838A-C98191858572}" type="slidenum">
              <a:rPr b="0" lang="el-GR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10F3-19DE-465C-88B3-9DE8BE577FDE}" type="slidenum">
              <a:rPr b="0" lang="el-GR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4379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ΕΠΙΚΟΙΝΩΝΙΑ ΔΕΔΟΜΕΝΩΝ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120" y="3352680"/>
            <a:ext cx="670572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ΑΝΑΛΟΓΙΚΗ ΜΕΤΑΔΟΣΗ ΨΗΦΙΑΚΩΝ ΣΗΜΑΤΩΝ</a:t>
            </a:r>
            <a:r>
              <a:rPr b="0" lang="el-GR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181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Εργασία του μαθητή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ebd189"/>
                </a:solidFill>
                <a:latin typeface="Verdana"/>
                <a:ea typeface="Times New Roman"/>
              </a:rPr>
              <a:t>α) Διαμόρφωση πλάτους</a:t>
            </a:r>
            <a:br>
              <a:rPr sz="3600"/>
            </a:b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7184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Ψηφιακό Σήμα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32767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Σήμα διαμόρφωσης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41148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Διαμορφωμένο Σήμα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5029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5943600"/>
            <a:ext cx="7391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Arial Narrow"/>
              </a:rPr>
              <a:t>Κατά τη διαμόρφωση πλάτους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1295280"/>
            <a:ext cx="4114800" cy="4572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eaeaea"/>
                </a:solidFill>
                <a:latin typeface="Comic Sans MS"/>
              </a:rPr>
              <a:t>τοποθετήστε την εικόνα εδώ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ebd189"/>
                </a:solidFill>
                <a:latin typeface="Verdana"/>
                <a:ea typeface="Times New Roman"/>
              </a:rPr>
              <a:t>β) Διαμόρφωση συχνότητας</a:t>
            </a:r>
            <a:br>
              <a:rPr sz="3600"/>
            </a:b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7184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943600"/>
            <a:ext cx="7391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Arial Narrow"/>
              </a:rPr>
              <a:t>Κατά τη διαμόρφωση συχνότητας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Ψηφιακό Σήμα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32767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Σήμα διαμόρφωσης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1148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Διαμορφωμένο Σήμα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5029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1295280"/>
            <a:ext cx="4114800" cy="4572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eaeaea"/>
                </a:solidFill>
                <a:latin typeface="Comic Sans MS"/>
              </a:rPr>
              <a:t>τοποθετήστε την εικόνα εδώ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ebd189"/>
                </a:solidFill>
                <a:latin typeface="Verdana"/>
                <a:ea typeface="Times New Roman"/>
              </a:rPr>
              <a:t>γ) Διαμόρφωση φάσης</a:t>
            </a:r>
            <a:br>
              <a:rPr sz="3600"/>
            </a:b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7184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Ψηφιακό Σήμα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2767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Σήμα διαμόρφωσης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1148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Διαμορφωμένο Σήμα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5029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5943600"/>
            <a:ext cx="7391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Arial Narrow"/>
              </a:rPr>
              <a:t>Κατά τη διαμόρφωση φάσης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1295280"/>
            <a:ext cx="4114800" cy="4572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eaeaea"/>
                </a:solidFill>
                <a:latin typeface="Comic Sans MS"/>
              </a:rPr>
              <a:t>τοποθετήστε την εικόνα εδώ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ebd189"/>
                </a:solidFill>
                <a:latin typeface="Verdana"/>
                <a:ea typeface="Times New Roman"/>
              </a:rPr>
              <a:t>δ) Συνδυασμός διαμόρφωσης πλάτους και φάσης (</a:t>
            </a:r>
            <a:r>
              <a:rPr b="1" lang="en-US" sz="3600" spc="-1" strike="noStrike">
                <a:solidFill>
                  <a:srgbClr val="ebd189"/>
                </a:solidFill>
                <a:latin typeface="Verdana"/>
                <a:ea typeface="Times New Roman"/>
              </a:rPr>
              <a:t>QAM</a:t>
            </a:r>
            <a:r>
              <a:rPr b="1" lang="el-GR" sz="3600" spc="-1" strike="noStrike">
                <a:solidFill>
                  <a:srgbClr val="ebd189"/>
                </a:solidFill>
                <a:latin typeface="Verdana"/>
                <a:ea typeface="Times New Roman"/>
              </a:rPr>
              <a:t>)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7184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5943600"/>
            <a:ext cx="7391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Arial Narrow"/>
              </a:rPr>
              <a:t>Κατά το συνδυασμό διαμόρφωσης πλάτους και φάσης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Ψηφιακό Σήμα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2767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Σήμα διαμόρφωσης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1148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 Narrow"/>
              </a:rPr>
              <a:t>Διαμορφωμένο Σήμα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5029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1295280"/>
            <a:ext cx="4114800" cy="4572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eaeaea"/>
                </a:solidFill>
                <a:latin typeface="Comic Sans MS"/>
              </a:rPr>
              <a:t>τοποθετήστε την εικόνα εδώ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4:59:43Z</dcterms:created>
  <dc:creator>chania4jhs</dc:creator>
  <dc:description/>
  <dc:language>en-US</dc:language>
  <cp:lastModifiedBy>chania4jhs</cp:lastModifiedBy>
  <dcterms:modified xsi:type="dcterms:W3CDTF">2005-10-06T17:44:32Z</dcterms:modified>
  <cp:revision>12</cp:revision>
  <dc:subject/>
  <dc:title>ΕΠΙΚΟΙΝΩΝΙΑ ΔΕΔΟΜΕΝΩΝ </dc:title>
</cp:coreProperties>
</file>