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ECE-3023-444B-9ADC-3ED5FB9E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BA3-7F8B-4A97-886C-D2901C2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E9D-30CC-497F-BF04-382111B4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170-B9E2-4002-994B-C4AA3C4C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B4-9D3E-4290-A23E-5EB843E9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D20-1388-48D6-8795-90AEC43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045-55B5-41FA-AAD6-C4AEABDD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A83-BA49-4128-BC2F-DCF7F9BB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0F3-55EC-42F9-AC33-5B5D69E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20D-87CD-41E7-A227-D6FA340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85B-807F-4AD6-BEB0-E4E0F33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5A6-1306-40A0-965A-D409B2B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2B28-AAB1-45D6-9324-828048F59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ltes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54600" cy="412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1752480"/>
            <a:ext cx="662940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mage3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53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1523880"/>
            <a:ext cx="6858000" cy="44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mage5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49568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62320" y="762120"/>
            <a:ext cx="4495680" cy="59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6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81280" cy="403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43200" y="1828800"/>
            <a:ext cx="358128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mage7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114800" cy="5321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14600" y="1219320"/>
            <a:ext cx="41148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image9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73392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66880" y="1143000"/>
            <a:ext cx="3657600" cy="533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imageathl1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64464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19520" y="914400"/>
            <a:ext cx="3657600" cy="571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filet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60684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914400"/>
            <a:ext cx="3581280" cy="571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krotala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029200" cy="527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1371600"/>
            <a:ext cx="50292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magepetasos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320040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8120" y="838080"/>
            <a:ext cx="3200400" cy="579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komos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33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066680"/>
            <a:ext cx="8458200" cy="533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oxers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53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819520" y="1219320"/>
            <a:ext cx="3504960" cy="53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yr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914400"/>
            <a:ext cx="8534160" cy="579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yra1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2514600" cy="5854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52680" y="838080"/>
            <a:ext cx="2514600" cy="586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ma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149640" cy="533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295280"/>
            <a:ext cx="3124080" cy="533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usiclesson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47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1676520"/>
            <a:ext cx="6858000" cy="449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ervant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91176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666880" y="762120"/>
            <a:ext cx="3886200" cy="586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storage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054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ymposion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590560" cy="513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1295280"/>
            <a:ext cx="2590560" cy="510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orch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1828800" cy="472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33920" y="1523880"/>
            <a:ext cx="1828800" cy="472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woman1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2520" cy="444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66880" y="1752480"/>
            <a:ext cx="396252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womansiting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4496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1523880"/>
            <a:ext cx="6781680" cy="44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zeusganymidis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women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10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1371600"/>
            <a:ext cx="7696080" cy="510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household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280040" cy="492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4267440" cy="487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unter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527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1219320"/>
            <a:ext cx="21333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1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508280" cy="441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1600200"/>
            <a:ext cx="449568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10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191120" cy="5321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38280" y="1219320"/>
            <a:ext cx="419112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1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1600200"/>
            <a:ext cx="6858000" cy="426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436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1523880"/>
            <a:ext cx="457200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0:50:00Z</dcterms:created>
  <dc:creator>joanna</dc:creator>
  <dc:description/>
  <dc:language>en-US</dc:language>
  <cp:lastModifiedBy>joanna</cp:lastModifiedBy>
  <dcterms:modified xsi:type="dcterms:W3CDTF">2002-03-31T07:53:01Z</dcterms:modified>
  <cp:revision>5</cp:revision>
  <dc:subject/>
  <dc:title>1. </dc:title>
</cp:coreProperties>
</file>